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AACC-D2CF-421D-92D7-34D959C0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CA55-9DC2-4362-BD7D-77F042DF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924F-CBF0-488F-A678-16EEFF00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3738-05EA-4810-878C-0C1D64D5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C496-DD45-4B9F-A7EA-68569DE5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4D09-8B1D-42C4-AEBC-2BA00AC3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224-052B-41B4-B19A-41B01CE3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5AC8-DFB6-4508-8D9C-6CEF03D9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49CD-E865-4457-901D-C27805B0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E1F7-5BFD-422A-9662-F392F5B8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830B-A143-4228-AD7B-DDE469F1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B821-4854-4BF9-8E3C-A885D775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0B0D-3BEA-42AE-BFE9-73419D064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40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08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action management overview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5676840"/>
            <a:ext cx="670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ww.cl.cam.ac.uk/Teaching/current/Databas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7345440" cy="3298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3640" y="5084640"/>
            <a:ext cx="568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1AC6-CE36-4322-8CC5-3CDB9DC8BE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Durability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MS uses the log to ensure 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system crashed before the changes made by a completed transaction are written to disk, the log is used to remember and restore these changes when the system is re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, this is handled by the recover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CA1E-9939-4F59-A8D1-328E8FF088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Transactions and schedules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transaction is seen by the DBMS as a series, or list, of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read and write of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’ll write this as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R(o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(o)</a:t>
            </a:r>
            <a:r>
              <a:rPr b="0" lang="en-GB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sometimes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0" lang="en-GB" sz="28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(o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</a:t>
            </a:r>
            <a:r>
              <a:rPr b="0" lang="en-GB" sz="28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(o)</a:t>
            </a:r>
            <a:r>
              <a:rPr b="0" lang="en-GB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1: [R(a), W(a), R(c), W(c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2: [R(b), W(b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addition, a transaction should specify as its final action either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comm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b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05B9-FB79-4C86-A534-6473406EEA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Schedules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chedu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list of actions from a set of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ell-formed schedule is one where the actions of a particular transaction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in the same order as they appear in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[R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T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a), W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T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a), R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T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b), W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T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b), R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T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c), W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T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c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well-forme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[R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T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c), W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T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c), R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T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b), W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T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b), R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T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a), W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T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a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not a well-forme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DBF2-131C-417E-8163-58953F6410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Schedules cont.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mplete sched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one that contains an abort or commit action for every transaction that occurs in the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rial sched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one where the actions of different transactions are not interlea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E1B3-5AC8-4F73-AA5D-D150523C30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 Black"/>
              </a:rPr>
              <a:t>Serialisability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serialisable schedu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a schedule whose effect on any consistent database instance is identical to that of some complete serial sched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different results assumed to be 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’s more complicated when we have transactions that ab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’ll assume that all ‘side-effects’ of a transaction are written to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DF5F-25FA-4FE7-B8A9-68DE59CFD2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Anomalies with interleaved execution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actions on the same data object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nfli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at least one of them is a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now consider three ways in which a schedule involving two consistency-preserving transactions can leave a consistent database inconsis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A88A-847F-48FF-A89A-E146BC9F72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WR conflicts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ction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ds a database object that has been modified by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ich has not com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1: R(a),W(a),                                  R(b),W(b),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2:                 R(a),W(a),R(b),W(b),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2440" y="3048120"/>
            <a:ext cx="1386000" cy="1295280"/>
            <a:chOff x="1522440" y="3048120"/>
            <a:chExt cx="1386000" cy="1295280"/>
          </a:xfrm>
        </p:grpSpPr>
        <p:sp>
          <p:nvSpPr>
            <p:cNvPr id="79" name=""/>
            <p:cNvSpPr/>
            <p:nvPr/>
          </p:nvSpPr>
          <p:spPr>
            <a:xfrm>
              <a:off x="1522440" y="3048120"/>
              <a:ext cx="13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bit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€100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rom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3720" y="3733920"/>
              <a:ext cx="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433840" y="3068640"/>
            <a:ext cx="1456200" cy="1295280"/>
            <a:chOff x="5433840" y="3068640"/>
            <a:chExt cx="1456200" cy="1295280"/>
          </a:xfrm>
        </p:grpSpPr>
        <p:sp>
          <p:nvSpPr>
            <p:cNvPr id="82" name=""/>
            <p:cNvSpPr/>
            <p:nvPr/>
          </p:nvSpPr>
          <p:spPr>
            <a:xfrm>
              <a:off x="5433840" y="3068640"/>
              <a:ext cx="1456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redit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€100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97760" y="3754440"/>
              <a:ext cx="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732840" y="5105520"/>
            <a:ext cx="1569240" cy="1465920"/>
            <a:chOff x="3732840" y="5105520"/>
            <a:chExt cx="1569240" cy="1465920"/>
          </a:xfrm>
        </p:grpSpPr>
        <p:sp>
          <p:nvSpPr>
            <p:cNvPr id="85" name=""/>
            <p:cNvSpPr/>
            <p:nvPr/>
          </p:nvSpPr>
          <p:spPr>
            <a:xfrm>
              <a:off x="3732840" y="5562720"/>
              <a:ext cx="1569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d a and b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d add 6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r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4419720" y="51055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832080" y="5289480"/>
            <a:ext cx="106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Di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read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409C-C419-4D4D-B199-944CED6CC7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RW conflicts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change the value of an object that has been read by a transactio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l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till 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1: R(a),                   R(a), W(a),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2:         R(a),W(a)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1: R(a),        W(a)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2:        R(a),            W(a)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49960" y="5105520"/>
            <a:ext cx="12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is 4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042200" y="4076640"/>
            <a:ext cx="1314720" cy="762120"/>
            <a:chOff x="1042200" y="4076640"/>
            <a:chExt cx="1314720" cy="762120"/>
          </a:xfrm>
        </p:grpSpPr>
        <p:sp>
          <p:nvSpPr>
            <p:cNvPr id="92" name=""/>
            <p:cNvSpPr/>
            <p:nvPr/>
          </p:nvSpPr>
          <p:spPr>
            <a:xfrm>
              <a:off x="1042200" y="4076640"/>
              <a:ext cx="131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d A (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52400" y="4381560"/>
              <a:ext cx="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338200" y="4076640"/>
            <a:ext cx="1494360" cy="685800"/>
            <a:chOff x="2338200" y="4076640"/>
            <a:chExt cx="1494360" cy="685800"/>
          </a:xfrm>
        </p:grpSpPr>
        <p:sp>
          <p:nvSpPr>
            <p:cNvPr id="95" name=""/>
            <p:cNvSpPr/>
            <p:nvPr/>
          </p:nvSpPr>
          <p:spPr>
            <a:xfrm>
              <a:off x="2338200" y="4076640"/>
              <a:ext cx="149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rite 5+1=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49480" y="4381560"/>
              <a:ext cx="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475640" y="5516640"/>
            <a:ext cx="1314720" cy="932400"/>
            <a:chOff x="1475640" y="5516640"/>
            <a:chExt cx="1314720" cy="932400"/>
          </a:xfrm>
        </p:grpSpPr>
        <p:sp>
          <p:nvSpPr>
            <p:cNvPr id="98" name=""/>
            <p:cNvSpPr/>
            <p:nvPr/>
          </p:nvSpPr>
          <p:spPr>
            <a:xfrm>
              <a:off x="1475640" y="6050160"/>
              <a:ext cx="131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d A (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086200" y="551664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985480" y="5516640"/>
            <a:ext cx="1436400" cy="932400"/>
            <a:chOff x="2985480" y="5516640"/>
            <a:chExt cx="1436400" cy="932400"/>
          </a:xfrm>
        </p:grpSpPr>
        <p:sp>
          <p:nvSpPr>
            <p:cNvPr id="101" name=""/>
            <p:cNvSpPr/>
            <p:nvPr/>
          </p:nvSpPr>
          <p:spPr>
            <a:xfrm>
              <a:off x="2985480" y="605016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rite 5-1=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673440" y="551664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658560" y="3352680"/>
            <a:ext cx="203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Unrepea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Rea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3F76-5D42-4B0F-8BBD-DEACCD1D83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WW conflicts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action 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uld overwrite the value of an object which has already been modified by 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while 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still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1: [W(Britney), W(gmb)]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Set both salaries at £1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2: [W(gmb), W(Britney)]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Set both salaries at $1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1: W(Britney),                              W(g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2:                  W(gmb), W(Britn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29840" y="5013360"/>
            <a:ext cx="202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mb gets £1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itney gets $1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79240" y="4221000"/>
            <a:ext cx="115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Bl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Writ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DD04-7B0B-4F3D-B561-49793B27F6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 Black"/>
              </a:rPr>
              <a:t>Serialisability and aborts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gs are more complicated when transactions can ab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1:R(a), W(a),         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b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2:                 R(a),W(a),R(b),W(b),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74560" y="2708280"/>
            <a:ext cx="149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duc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3429000"/>
            <a:ext cx="14040" cy="380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45480" y="5013360"/>
            <a:ext cx="18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6%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 and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140360" y="44370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31800" y="5105520"/>
            <a:ext cx="27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Can’t undo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It’s committed </a:t>
            </a:r>
            <a:r>
              <a:rPr b="1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6DFA-1775-4A9C-B7F8-D0883804B2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Today’s lecture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we want concurrent execution of user progra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roperties might we wish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a transa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roblems when interleaving trans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 we overcome the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8476-E85B-477D-B3BB-3B973AF0AE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Strict two-phase locking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BMS enforces the following locking protoc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transaction must obtain an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har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lock before reading, and an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xclus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lock before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locks held by a transaction are released when the transaction compl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a transaction holds an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ock on an object, no other transaction can get a lock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on tha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ict 2PL allows only serialisable sche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EC96-6F09-40BA-AF81-FE918700B7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More refined locks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updates that seem at first sight to require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ck, can be given something w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Consider a seat count object in a flights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transactions that wish to book a flight – ge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ck on seat cou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es it matter in what order they decrement the cou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mmutative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c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they need a write loc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7282-81CC-4266-9539-B35F984BC7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Aborting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ransaction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aborted, then all actions must be un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so, if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j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ads object last written by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j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ust be abort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systems avoid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cascading abor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y releasing locks only at commit time (strict protoco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ites an object, then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j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n only read this after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inis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order to undo changes, the DBMS maintains a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lo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hich records every 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F6E5-515A-416F-BCA3-526E7CC7F1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The log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following facts are recorded in the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rites an object”: store new and old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ommits/aborts”: store just a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g records are chained together by transaction id, so it’s easy to undo a specific trans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g is often duplexed and archived on stable storage (it’s importan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527C-D58C-40CE-B73A-41669A278E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Connection to Normalization</a:t>
            </a:r>
            <a:endParaRPr b="0" lang="en-US" sz="4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redundancy in a database, the more locking is required for (update)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 case: so much redundancy that all update transactions are forced to execute serial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neral, less redundancy allows for greater concurrency and greater transaction throughpu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49560" y="5013360"/>
            <a:ext cx="62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!!! This is what normalization is all about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0ACC-F88A-4F6B-9127-9F78B35BB5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The Fundamental Tradeoff of Database Performance Tuning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226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-normalized data can often result in faster quer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ized data leads to better transaction 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75040" y="5589720"/>
            <a:ext cx="6622560" cy="9169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hat is more important in your database --- query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r transaction throughput?   The answer will va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hat do the extreme ends of the spectrum look like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0200" y="4292640"/>
            <a:ext cx="770940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es, indexing data can speed up transactions, but this just prov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 point --- an index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S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redundant data. General rule of thumb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ndexing will slow down transaction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9651-9D0C-4589-922E-225849CE12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should now underst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actions and the ACID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hedules and serialisable sche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anomalies with interle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ict 2-phase lo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blems with transactions that can ab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Next lecture: OLAP. How to build “read only” databases by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forgetting about normal forms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2905-88FB-45FC-A02A-D9F8C241461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Transactions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urrent execution of user programs is essential for good DBMS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k access is frequent and slow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keep the CPU bus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ser’s program may carry out all sorts of operations on the data, but the DBMS is only concerned about what data is read from/written to the datab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63A8-2E4A-483F-9B2A-966AC2B561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Transactions cont.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us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ransac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the DBMS’s abstract view of a user program: a series of reads/writes of database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rs submit transactions, and can think of each transaction as executing by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currency is achieved by the DBMS, which interleaves actions of the various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su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leaving transactions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ash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B2D2-2FD3-4B19-9E53-3154DFBB87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Goal: The ACID properties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tomi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ither all actions are carried out, or non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sist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f each transaction is consistent, and the database is initially consistent, then it is left consis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so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ransactions are isolated, or protected, from the effects of other scheduled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ur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f a transactions completes successfully, then its effects per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F27A-119C-47A8-8624-7251431056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Arial Black"/>
              </a:rPr>
              <a:t>A</a:t>
            </a:r>
            <a:r>
              <a:rPr b="0" lang="en-GB" sz="4400" spc="-1" strike="noStrike">
                <a:solidFill>
                  <a:srgbClr val="333399"/>
                </a:solidFill>
                <a:latin typeface="Arial Black"/>
              </a:rPr>
              <a:t>Atomicity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ransaction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mm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fter completing its actions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b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aus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DBMS decision: re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rash: power, disk failure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xpected situation: unable to access disk, data value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ransaction interrupted in the middle could leave the database in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 needs to remove the effects of partial transactions to ensur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tomi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ither all a transaction’s actions are performed or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FD82-7520-4C6D-87DB-A34CAE31F8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Arial Black"/>
              </a:rPr>
              <a:t>A</a:t>
            </a:r>
            <a:r>
              <a:rPr b="0" lang="en-GB" sz="4400" spc="-1" strike="noStrike">
                <a:solidFill>
                  <a:srgbClr val="333399"/>
                </a:solidFill>
                <a:latin typeface="Arial Black"/>
              </a:rPr>
              <a:t>Atomicity cont.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BMS ensures atomicity by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undo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ctions of partial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nable this, the DBMS maintains a record, called a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f all writes to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onent of a DBMS responsible for this is called the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covery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AED6-15B5-427F-BA0A-AB2C28A3DF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Consistency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are responsible for ensuring transaction consis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 to completion against a consistent database instance, the transaction leaves the database consist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consistency criterion that my inter-account-transfer transaction does not change the total amount of money in the accoun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atabase consist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property that every transaction sees a consistent database instance. It follows from transaction atomicity, isolation and transaction consis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468920" y="3809880"/>
            <a:ext cx="1619280" cy="1085040"/>
            <a:chOff x="7468920" y="3809880"/>
            <a:chExt cx="1619280" cy="1085040"/>
          </a:xfrm>
        </p:grpSpPr>
        <p:sp>
          <p:nvSpPr>
            <p:cNvPr id="60" name=""/>
            <p:cNvSpPr/>
            <p:nvPr/>
          </p:nvSpPr>
          <p:spPr>
            <a:xfrm>
              <a:off x="7468920" y="4191120"/>
              <a:ext cx="1619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teg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nstraints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7543800" y="3809880"/>
              <a:ext cx="457200" cy="457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4F69-3D87-48FC-A3FF-7565555347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Isolation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 that even though transactions may be interleaved, the net effect is identical to executing the transaction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if transactions 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executed concurrently, the net effect is equivalent to exec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llowed by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llowed by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The DBMS provides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o guarantee of effective order of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6968-A650-4B55-A002-4CFA340D80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6:19:54Z</dcterms:created>
  <dc:creator>gmb13</dc:creator>
  <dc:description/>
  <dc:language>en-US</dc:language>
  <cp:lastModifiedBy>Office 2004 Test Drive User</cp:lastModifiedBy>
  <dcterms:modified xsi:type="dcterms:W3CDTF">2008-04-21T07:52:51Z</dcterms:modified>
  <cp:revision>69</cp:revision>
  <dc:subject/>
  <dc:title>Lecture 10 - Transaction management overview</dc:title>
</cp:coreProperties>
</file>